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jpeg" ContentType="image/jpe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dt" idx="8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9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0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2985A-73C9-434F-9CFF-216E5E6B5A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BCE01-D6FA-4EB2-910A-7FF5C0C797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мы и госп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этой презентации – еще раз подчеркнуть, насколько активное участие в МЭК может принести пользу национальной и региональной политике, контролю качества поступающей электрической и электронной продукции, а также участия компаний в глобальных цепочках создания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режде я вкратце приведу новую информацию о МЭК и тенденциях в мировой торговле электротехническими устройств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4906B-F8F0-4656-9A07-EB2C426CE86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16B36-8CAF-478A-90B9-731DF01EF2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ащиты граждан и инфраструктуры от некачественной продукции необходима инфраструктура контроля качества. Системы оценки соответствия МЭК вместе с международными стандартами МЭК позволяют странам испытывать и сертифицировать продукцию, таким образом гарантируя ее безопасность, надежность и работоспособность должным обр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9DC5E-10D9-4451-9478-7FA0F000BA6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A0081-6796-4763-AA6C-3E8FCC5054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ЭК управляет четырьмя системами оценки соответствия, которые проверяют безопасность и производительность товаров, используемых в домах, офисах, медицинских учреждениях, производствах, взрывоопасных средах, электронике, а также для выработки всех видов энер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64921-2498-4413-85CF-1DA19B13EF7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ECE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на во всем мире в качестве системы для проверки безопасности электрического и неэлектрического оборудования, используемого во взрывоопасных средах. Она была одобрена Организацией Объединенных Наций через Европейскую экономическую комиссию (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E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рекомендуемой модели для проверки соответствия международным стандартам проектирования, монтажа, технического обслуживания и ремонта, а также компетентности персонала, работающего во взрывоопасных средах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щая нормативная база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UNE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оборудования, используемого в средах со взрывоопасной атмосфер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назначена для широкого внедрения регулято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8AA1F-FEB4-4D68-980C-B851992A14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2D26E-C7A8-4CC8-A6D1-8EEDBBEDC9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м слайде представлен обзор участия стран МГС в Системах оценки соответствия МЭК. В октябре 2016 года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ECRE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е сертификаты, и мы надеемся, что она также привлечет интерес стран МГ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486DC-8D00-4DFD-8934-F3988255EC0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6A48-58CA-42A2-A4C4-9B2BA5E44F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ам трудно принять международные стандарты МЭК в связи с тем, как вы считаете, что некоторые особые потребности вашей страны не были приняты во внимание, вам необходимо выразить свое мнение. Являясь членом МЭК, вы можете сообщать о национальных потребностях в процессе разработки стандартов.  Это помогает улучшить стандарты для многих пользователей. А также облегчает принятие в вашей стране международного, а не национального или регионального стандарта.  Принятие не только происходит быстрее и обходится дешевле: оно также обеспечивает вам больше гибкости. Например, государственные и частные лица будут иметь более широкий выбор международных поставщиков и, как правило, более выгодные цены: они получат продукты достойного и предсказуемого качества, способные корректно работать друг с друг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 то ни было, если конкретные потребности не могут быть учтены в международном стандарте МЭК, каждый член МЭК имеет право модифицировать стандарт для принятия. Подобные модификации, разумеется, всегда лучше сводить к миниму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8C7DD-3B45-4891-BC94-66938059225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5C737-427A-44A5-A3F9-52AF2720E7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ом, международные стандарты МЭК вместе с оценкой соответствия обеспечивают уверенность в том, что продукция соответствует согласованным на международном уровне критериям безопасности, качества и производительности, а так же облегчают взаимодей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 помогают достичь безопасности и повысить эффе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 предлагают основу для современного технического регулирования и законов, которые будут дольше оставаться современн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ними вы выполняете соглашение ВТО ТБТ, содействуете импорту товаров, а в будущем еще и экспо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МЭК обеспечивает основу для вашей национальной программы контроля ка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 времени изобретать колесо: используйте международные стандарты МЭК и играйте активную роль в их развитии на благо вашей регионально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1EF76-06A2-40B4-8F50-48A17222D51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B9F54-EC81-4A0A-AF0A-77D34FE272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деюсь, что этот обзор был полезен. Благодарю за вним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F36F3-BD13-4388-A4D4-B394E6D007F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681FF-79D5-44AE-9801-DB34ED023E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8BF12-0CB9-4FB6-9A84-8A40E889ECD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ружество МЭК объединяет 170 стран, которые представляют более 99% мирового населения и производства электроэнергии. Благодаря глобальному охвату и актуальности, МЭК полностью удовлетворяет требованиям Всемирной торговой организации (ВТО). Большинство стран мира признают устройства, созданные в соответствии с международными стандартами МЭ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20 000 экспертов задействованы в 203 технических област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блиотека МЭК содержит около 10 000 публик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 системы оценки соответствия МЭК выдали более 1 миллиона сертификатов. Они необходимы для проверки безопасности и надежности миллиардов электрических и электронных устройств, используемых в домах, офисах, медицинских учреждениях, производствах, взрывоопасных средах и для выработки электроэнер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BF687-E863-435A-8A34-5512F503A5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CB9D9-9F75-4E2F-B400-1DAB920605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электрические и электронные устройства представляют собой самую большую категорию товаров, продаваемых во всем мире. По состоянию на конец 2015 года они составляли 17,7% от объема торговли, согласно статистическим данным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 Co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, если не большинство, из этих электрических и электронных товаров, зависят от международных стандартов МЭК. Они также незаменимы для любой страны, которая хочет участвовать во все более фрагментированных производственных процессах в цепочках создания стоимости, охватывающих весь ми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3EFEF-4D26-4701-BCF8-013C8E624F2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57027-8D74-4489-92A6-FEBD338784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ношении электротехнологии, региональные стандарты часто создают препятствие для участия малых и средних компаний в глобальных цепочках создания стоимости. Как правило, такие компании не располагают финансовыми средствами для создания одного продукта для регионального рынка и другого для экспо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е стандарты также могут быть препятствием в торговых соглашениях. В зависимости от размера рынка, они могут привести к затратам на адаптацию, которые ограничивают выбор продукта и ведут к росту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 стандарты МЭК разрабатываются в соответствии с принципами, изложенными в ТБТ ВТО, и подчиняются ряду строгих процедур. Они основаны на объективной информации и знаниях, отвечают потребностям и проблемам всех соответствующих заинтересованных сторон, включая государственные орга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CA103-AC1C-4A2A-AD63-8F2F69174EC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49BCE-7771-4DE5-9FA0-32A5FA98A4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шение ВТО по ТБТ рекомендует странам-членам по возможности использовать международные, а не национальные или региональные стандар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международных стандартов МЭК помогает уменьшить барьеры для торговли в области электрического и электронного оборудования и 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9F17-34B4-4760-9824-BC3052DA8DB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43111-D059-4965-B6F0-5A5F12BBE0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 стандарты также служат поддержкой национальной политики в области энергетики, сохранности и безопас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стандартов обеспечение качества и управление рисками было бы невозможно. Эти стандарты включают в себя аспекты безопасности, оценки рисков, оценки качества и производительности и составляют основу для испытаний и сертификации. Хорошая нормативная практика поощряет ссылки на стандарты для обеспечения соблюдения зак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 стандарты могут способствовать передаче технологий. Они также позволяют регуляторам оценивать технологические решения и успешно тиражировать их с минимальными усил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 стандарты МЭК, наряду с испытаниями и сертификацией, позволяют странам-членам МГС сокращать число барьеров в торговле. Они также помогают контролировать продукты низкого качества и контрафактную продукцию и снижать их социальное воздействие с точки зрения несчастных случаев и пож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8889E-AF43-4768-A82F-AFFD38EC0EB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25B26-CC62-4375-A276-DC4BAD45DC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я низкого качества и контрафактная продукции обходятся обществу дорого, даже если первоначальная закупочная цена для пользователя невыс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материалов более низкого качества и нестандартизированной проводки в подобной продукции часто приводит к несчастным случаям и пожарам. Например, печи низкого качества обычно имеют слабую изоляцию. Корпус становится чрезвычайно горячим, что  может привести к ожогам третьей степени, особенно у детей. Неисправная проводка может привести к поражению электрическим то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оценкам, низкокачественные бытовые приборы и несоответствующая электропроводка являются причиной приблизительно 40% пожаров в ряде стран. Принятие и обеспечение соблюдения Стандартов МЭК, как на нормативном уровне, так и посредством испытаний, является важным инструментом для борьбы с продукцией низкого качества и контрафактной продук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EA23D-3885-424A-9A79-752ADE78E09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C3F3E-EF09-44EC-8672-31B74AD9CA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инансового и социального урона, низкокачественные продукты создают ряд дополните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 недолгий срок их службы приводит к увеличению количества опасных отходов, которые необходимо утилизиров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часто покупать новые приборы снижает располагаемый доход потребителей, а также их способность инвестировать в другие области. Низкое качество продукции в сегменте светодиодов, солнечных ламп или фотоэлектрических элементов может подорвать доверие к новым технологиям и поставить под угрозу энергосберегающие устро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1B552-EF9D-441B-AD74-7B038300E35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E33B-E58A-472F-83EE-A150F4C12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CDA7-13E0-41F3-9723-43DFE521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02A7-60D8-4F2D-9699-71A93750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02A6-D443-47C5-B18B-65EC9EE8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387C-D7B7-48DF-B2BF-D907DF4C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64F7-21FA-48E8-9B87-51D6D194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8775-1F38-4AFB-B0B4-3C6D4167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BEFF-2AEB-4F58-96AF-1CB5394A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D6D8-8B09-482D-A6A7-E19A96DE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C948-4BC1-4BF6-A7B5-9A8473D5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24A4-C720-47C7-AE5B-1002692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F884-5530-49E3-BCBE-1A3557ED4E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646E3-ED9E-42BC-A714-B2099DB09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40CBB-49CB-4A72-8EFA-C3B2B28F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EC1F1-816D-42CC-9BB9-B6EE64B6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1F643-E9D6-4D9E-884C-37B3F255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85A1B-0776-4CAE-AC3A-E46E9FFA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CA1FA-70D1-41D6-8C3E-F41C1C2D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6E377-9AC5-459A-878A-ECABA02A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16DC9-5E93-4ABC-9380-4DFF25BD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B2499-2DAB-4FA8-A847-B98881A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6024B-9043-4D0F-9F62-823D5C05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253B5-7347-439E-A7F0-D3063CC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3388-BF17-4538-AC52-D6F8D9594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9EF0-4427-4441-883F-1D1429C86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035A-3B1A-433F-9812-5A9D9C19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0932-9F05-4137-841A-79A54DBF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2BB2-605C-42B2-BC54-26CE1E21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9E9F-4D0A-4A81-A336-6EB3BECE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F9FE-3DF1-4EBC-97BE-1DDE8CB6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A2EF-774B-4CF8-9043-D162068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4C3D-0132-487F-89B3-8A371AC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4ADF-8642-492E-87A0-3F6FBEBE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16D5-F3AA-4EF9-8E83-917B0781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F13D-A74B-4A65-9E10-80422EB1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3F87-450F-43F1-8B6A-40CF45CB9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AC6B7-D196-4923-88DB-01F52534A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29E17-BCDE-4608-B7F4-74BE91D816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27FC6E-017A-476F-8D70-83AD3F1311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E950E-3DEA-40AE-84DD-08C2A15CEE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AD5C0E-587A-4B82-9996-0D53CD5D34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8C44C-DAEE-4661-A593-1C4B1BF39BC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9B608-1A5C-4EBB-BBC4-F111A1E406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31129-C649-4C4A-9805-19DFA9E570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890A5D-15AB-465A-9DE6-810C0EC2106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9C851-524C-406A-AF04-81F651C8E4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0AD9C-2E2C-4699-8A52-6CB69A65B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EE23B-A0B5-444A-AF14-366538279D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68000" y="4439160"/>
            <a:ext cx="8062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50760" y="5454720"/>
            <a:ext cx="9215280" cy="143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4025880"/>
            <a:ext cx="8062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4"/>
          <a:stretch/>
        </p:blipFill>
        <p:spPr>
          <a:xfrm>
            <a:off x="7962840" y="5518080"/>
            <a:ext cx="1146240" cy="13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440" y="188640"/>
            <a:ext cx="82789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440" y="1599840"/>
            <a:ext cx="8278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110280" y="63561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5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484280" y="635652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442800" y="6356160"/>
            <a:ext cx="790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7F5CB0E-85E1-4669-9345-2A0B7D73A10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92160" y="101520"/>
            <a:ext cx="8961480" cy="66643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3"/>
          </p:nvPr>
        </p:nvSpPr>
        <p:spPr>
          <a:xfrm>
            <a:off x="6110280" y="63561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5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84280" y="635652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4"/>
          </p:nvPr>
        </p:nvSpPr>
        <p:spPr>
          <a:xfrm>
            <a:off x="442800" y="6356160"/>
            <a:ext cx="790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F5ACCAE-28B1-4BAA-A232-C539662831F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5"/>
          </p:nvPr>
        </p:nvSpPr>
        <p:spPr>
          <a:xfrm>
            <a:off x="6110280" y="63561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5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84280" y="635652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6"/>
          </p:nvPr>
        </p:nvSpPr>
        <p:spPr>
          <a:xfrm>
            <a:off x="442800" y="6356160"/>
            <a:ext cx="790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F94B89-86D4-4928-9A91-4A20894BA9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395280" y="1522080"/>
            <a:ext cx="4030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789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42800" y="1601280"/>
            <a:ext cx="4065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42440" y="187200"/>
            <a:ext cx="82789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7"/>
          </p:nvPr>
        </p:nvSpPr>
        <p:spPr>
          <a:xfrm>
            <a:off x="442800" y="6356160"/>
            <a:ext cx="790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7EE2FA8-7DA9-4A5B-A9B2-18FA737F7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8366040" y="6094440"/>
            <a:ext cx="741600" cy="647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6480" y="-27000"/>
            <a:ext cx="9131040" cy="6885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514160"/>
            <a:ext cx="822816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4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6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-144360" y="-206280"/>
            <a:ext cx="9323280" cy="56498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640" y="3750840"/>
            <a:ext cx="907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Членство в МЭК: преимущества для государственной п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литики и торго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816360" y="5445000"/>
            <a:ext cx="4608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Г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 мая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у, Азербайдж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44360" y="5445000"/>
            <a:ext cx="3924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ьрих Спиндлер (Ulrich Spind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це президент МЭК и председатель Бюро по оценке соответствия (C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439560" y="1522440"/>
            <a:ext cx="442152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Защи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та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граждан и инфраструктур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Международные стандарты 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МЭК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+ испытания и серт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=  подтверждение надежности и безопасности продукции и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42800" y="18720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Arial"/>
              </a:rPr>
              <a:t>Инфраструктура контроля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422424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611280" y="1557360"/>
            <a:ext cx="6048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ECE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дома, офисы, медицинские учреждения, производственные помещения, общественные места, интеллектуальные сети (Smart Grid), электротранспортные средства (E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ECE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все необходимые проверки для взрывоопасной индуст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ECQ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электронные компоненты и менеджмент качества поставщ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ECR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возобновляемые источники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95280" y="21744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595959"/>
                </a:solidFill>
                <a:latin typeface="Arial"/>
              </a:rPr>
              <a:t>4 системы оценки соответств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7020000" y="1544760"/>
            <a:ext cx="1825560" cy="779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2"/>
          <a:stretch/>
        </p:blipFill>
        <p:spPr>
          <a:xfrm>
            <a:off x="6954840" y="2735280"/>
            <a:ext cx="1828800" cy="781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1752480" cy="74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4"/>
          <a:stretch/>
        </p:blipFill>
        <p:spPr>
          <a:xfrm>
            <a:off x="7051680" y="5068800"/>
            <a:ext cx="882720" cy="7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3924360" y="1023840"/>
            <a:ext cx="5757840" cy="5834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5" descr="IEC logo RVB"/>
          <p:cNvPicPr/>
          <p:nvPr/>
        </p:nvPicPr>
        <p:blipFill>
          <a:blip r:embed="rId2"/>
          <a:stretch/>
        </p:blipFill>
        <p:spPr>
          <a:xfrm>
            <a:off x="8172360" y="600084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"/>
          <p:cNvSpPr/>
          <p:nvPr/>
        </p:nvSpPr>
        <p:spPr>
          <a:xfrm>
            <a:off x="395280" y="1125360"/>
            <a:ext cx="504036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о признанная система сертификации для взрывоопасных сре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луживание и рем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етенц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C 31  разрабатывает стандарты для электрического и неэлектрического оборудования, например, оборудования для шах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itle 3"/>
          <p:cNvSpPr/>
          <p:nvPr/>
        </p:nvSpPr>
        <p:spPr>
          <a:xfrm>
            <a:off x="395280" y="187200"/>
            <a:ext cx="8748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омендовано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395280" y="21744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595959"/>
                </a:solidFill>
                <a:latin typeface="Arial"/>
              </a:rPr>
              <a:t>Участие в </a:t>
            </a:r>
            <a:r>
              <a:rPr b="1" lang="ru-RU" sz="3800" spc="-1" strike="noStrike">
                <a:solidFill>
                  <a:srgbClr val="595959"/>
                </a:solidFill>
                <a:latin typeface="Arial"/>
              </a:rPr>
              <a:t>С</a:t>
            </a:r>
            <a:r>
              <a:rPr b="1" lang="en-US" sz="3800" spc="-1" strike="noStrike">
                <a:solidFill>
                  <a:srgbClr val="595959"/>
                </a:solidFill>
                <a:latin typeface="Arial"/>
              </a:rPr>
              <a:t>истемах оценки соответствия МЭ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747880" y="1424160"/>
            <a:ext cx="1752840" cy="747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4788000" y="1424160"/>
            <a:ext cx="1828800" cy="780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3"/>
          <a:stretch/>
        </p:blipFill>
        <p:spPr>
          <a:xfrm>
            <a:off x="6877080" y="1424160"/>
            <a:ext cx="1752480" cy="747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684360" y="2833560"/>
            <a:ext cx="2063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лару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22440" y="3532320"/>
            <a:ext cx="2473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оссийская федерац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93720" y="4849920"/>
            <a:ext cx="20638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4"/>
          <a:srcRect l="0" t="16895" r="0" b="0"/>
          <a:stretch/>
        </p:blipFill>
        <p:spPr>
          <a:xfrm>
            <a:off x="3112920" y="2622600"/>
            <a:ext cx="924120" cy="806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5"/>
          <a:srcRect l="0" t="16895" r="0" b="0"/>
          <a:stretch/>
        </p:blipFill>
        <p:spPr>
          <a:xfrm>
            <a:off x="3203640" y="3573360"/>
            <a:ext cx="923760" cy="806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"/>
          <p:cNvPicPr/>
          <p:nvPr/>
        </p:nvPicPr>
        <p:blipFill>
          <a:blip r:embed="rId6"/>
          <a:srcRect l="0" t="16895" r="0" b="0"/>
          <a:stretch/>
        </p:blipFill>
        <p:spPr>
          <a:xfrm>
            <a:off x="3203640" y="4565520"/>
            <a:ext cx="9237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"/>
          <p:cNvPicPr/>
          <p:nvPr/>
        </p:nvPicPr>
        <p:blipFill>
          <a:blip r:embed="rId7"/>
          <a:srcRect l="0" t="16895" r="0" b="0"/>
          <a:stretch/>
        </p:blipFill>
        <p:spPr>
          <a:xfrm>
            <a:off x="5087880" y="3557520"/>
            <a:ext cx="924120" cy="806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"/>
          <p:cNvPicPr/>
          <p:nvPr/>
        </p:nvPicPr>
        <p:blipFill>
          <a:blip r:embed="rId8"/>
          <a:srcRect l="0" t="16895" r="0" b="0"/>
          <a:stretch/>
        </p:blipFill>
        <p:spPr>
          <a:xfrm>
            <a:off x="7176960" y="3573360"/>
            <a:ext cx="924120" cy="8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39560" y="1522440"/>
            <a:ext cx="492444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чет локальных потребностей = улучшенные станда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Содействие принятию на национальном уро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Расширенный выбор, лучшие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Члены могут модифицировать стандарты МЭК и прода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24000" y="19692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Arial"/>
              </a:rPr>
              <a:t>Сделайте Ваш голос услышан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4236840" cy="27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39640" y="1125360"/>
            <a:ext cx="8093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Содействие функциональной совместимости продуктов и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Повышение эфф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Подробная основа для технических регламентов и законов – шагайте в ногу со времнем, 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получите 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в свое распоряжени</a:t>
            </a:r>
            <a:r>
              <a:rPr b="1" lang="ru-RU" sz="2800" spc="-1" strike="noStrike">
                <a:solidFill>
                  <a:srgbClr val="595959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новейш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Содействие торговле (ВТО ТБ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58585a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Формирование основы программ контроля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395280" y="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Преимущества для органов, ответственных за формирование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"/>
          <p:cNvPicPr/>
          <p:nvPr/>
        </p:nvPicPr>
        <p:blipFill>
          <a:blip r:embed="rId1"/>
          <a:stretch/>
        </p:blipFill>
        <p:spPr>
          <a:xfrm>
            <a:off x="-144360" y="-206280"/>
            <a:ext cx="9323280" cy="5649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640" y="3750840"/>
            <a:ext cx="907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Членство в МЭК: преимущества для государственной п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литики и торго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816360" y="5445000"/>
            <a:ext cx="4608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Г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 мая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у, Азербайдж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44360" y="5445000"/>
            <a:ext cx="3924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ьрих Спиндлер (Ulrich Spind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це президент МЭК и председатель Бюро оценки соответствия (C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-69840" y="0"/>
            <a:ext cx="9345600" cy="70293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"/>
          <p:cNvSpPr/>
          <p:nvPr/>
        </p:nvSpPr>
        <p:spPr>
          <a:xfrm>
            <a:off x="442800" y="6356520"/>
            <a:ext cx="7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EA731B9-8A91-4021-B571-FFA50109E27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-82440" y="3284640"/>
            <a:ext cx="91440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Глобальный охва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170 стр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99.1% мирового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99.2% производства электроэнер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8170920" y="6000840"/>
            <a:ext cx="649080" cy="64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660680" y="2311560"/>
            <a:ext cx="7507080" cy="4573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5" descr="IEC logo RVB"/>
          <p:cNvPicPr/>
          <p:nvPr/>
        </p:nvPicPr>
        <p:blipFill>
          <a:blip r:embed="rId2"/>
          <a:stretch/>
        </p:blipFill>
        <p:spPr>
          <a:xfrm>
            <a:off x="8172360" y="600084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267" name="Title 3"/>
          <p:cNvSpPr/>
          <p:nvPr/>
        </p:nvSpPr>
        <p:spPr>
          <a:xfrm>
            <a:off x="442800" y="44784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ирная платформа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 000 экспе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3 ТК/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000 Международных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истемы оценки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324000" y="1368360"/>
            <a:ext cx="4643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Мировая торговля электронными и электрическими устройствами</a:t>
            </a:r>
            <a:r>
              <a:rPr b="1" lang="ru-RU" sz="2600" spc="-1" strike="noStrike">
                <a:solidFill>
                  <a:srgbClr val="595959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 17.7% </a:t>
            </a:r>
            <a:br>
              <a:rPr sz="2600"/>
            </a:b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(2,893 триллиона</a:t>
            </a:r>
            <a:r>
              <a:rPr b="1" lang="ru-RU" sz="2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USD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Чистая энергия: 11.1% </a:t>
            </a:r>
            <a:br>
              <a:rPr sz="2600"/>
            </a:b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(1,822 триллиона</a:t>
            </a:r>
            <a:r>
              <a:rPr b="1" lang="ru-RU" sz="2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US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Транспортные средства: 8.0% (1,314 триллиона</a:t>
            </a:r>
            <a:r>
              <a:rPr b="1" lang="ru-RU" sz="2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Arial"/>
              </a:rPr>
              <a:t>US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*не включая осветительные приборы, фотоприборы, </a:t>
            </a: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авиацию</a:t>
            </a: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 и т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95280" y="115920"/>
            <a:ext cx="8748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Крупнейший </a:t>
            </a: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товарный оборот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962600" y="1606680"/>
            <a:ext cx="4181400" cy="36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324000" y="836640"/>
            <a:ext cx="4392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Препятствие для 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мелких, малых и средних предприятий 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ММСП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в отношении экспорта и участия в глобальных цепочках оценки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Помеха для двусторонних торговых соглашений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Расходы на адаптацию,  ограниченный выбор продукции,  более высокие цены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539640" y="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Arial"/>
              </a:rPr>
              <a:t>Региональные станд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933800" y="1700280"/>
            <a:ext cx="428796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0" y="260280"/>
            <a:ext cx="917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ны-члены ВТО полагаются на международные стандарты МЭ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8366040" y="6021360"/>
            <a:ext cx="7416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5203800" y="1844640"/>
            <a:ext cx="3960720" cy="32068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"/>
          <p:cNvSpPr/>
          <p:nvPr/>
        </p:nvSpPr>
        <p:spPr>
          <a:xfrm>
            <a:off x="439560" y="1079640"/>
            <a:ext cx="4853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Международные стандар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Составляют 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основу для испытаний и серт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Обеспечивают соблюдение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Сокращают барьеры для торго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Содействуют передаче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Помогают 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в борьбе с некачественной и контрафактной продук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42800" y="18720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Надежная </a:t>
            </a: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нормативная пр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439560" y="1700280"/>
            <a:ext cx="44215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Стоит дешево, но обходится обществу дор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Материалы низкого качества: несчастные случаи, ожоги, пожар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ы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, поражение электрическим т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Международные стандарты МЭК + тестирование / сертификация = важный инстру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42800" y="18720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Некачественная и контрафактная прод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5440320" y="1773360"/>
            <a:ext cx="370224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39560" y="1522440"/>
            <a:ext cx="442152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Короткий срок службы = больше опасных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Частая замена = снижение располагаемого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Падение доверия к новым технологиям (светодиоды, солнечные лампы, фотоэлектрические системы и т. д.): Опасность для программ повышения энергоэффе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442800" y="187200"/>
            <a:ext cx="8280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Увеличение </a:t>
            </a: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отходов, падение дове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4997520" y="1773360"/>
            <a:ext cx="4146480" cy="275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tte Pitteloud</dc:creator>
  <dc:description/>
  <dc:language>en-US</dc:language>
  <cp:lastModifiedBy>Antoinette Pitteloud</cp:lastModifiedBy>
  <dcterms:modified xsi:type="dcterms:W3CDTF">2017-05-16T08:18:57Z</dcterms:modified>
  <cp:revision>36</cp:revision>
  <dc:subject/>
  <dc:title>Членство в МЭК: преимущества для государственной пллитики и торговли</dc:title>
</cp:coreProperties>
</file>